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6D27-2D4D-4426-A9BD-706FCCD76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08E1-FD1B-47C4-A480-E62752CE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C4BC-1235-4A08-8D08-DA32CE32A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2B19-A841-4F14-A476-88E9A5A15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97BD-C81D-4B3A-BDE1-CE18542C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4BA6-C720-4306-ADB6-EFB40FB7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E954-F043-405B-BFF7-F6FD6973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65A9-B41D-4546-A32B-73F03544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AA3B-D0E0-4810-8B36-EA941EE7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6F2E-E6F2-4EA8-B247-F7F7C949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B88E-F7D2-4824-A3DC-B8405571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77DA-1E44-4324-89C5-AB498D9C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071E-EA2F-44BB-A872-7E1ABB1F8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52680" y="380880"/>
            <a:ext cx="42386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33720" y="885960"/>
            <a:ext cx="487656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843280" y="762120"/>
            <a:ext cx="34574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843280" y="762120"/>
            <a:ext cx="34574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43240" y="762120"/>
            <a:ext cx="44575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09600" y="-361800"/>
            <a:ext cx="6724800" cy="75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43360" y="-428760"/>
            <a:ext cx="3257280" cy="771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81240" y="-857160"/>
            <a:ext cx="4781520" cy="85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76440" y="-895320"/>
            <a:ext cx="7791120" cy="86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76520" y="-380880"/>
            <a:ext cx="39909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0120" y="-1419120"/>
            <a:ext cx="7943760" cy="96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38560" y="1209600"/>
            <a:ext cx="446688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81240" y="838080"/>
            <a:ext cx="47815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0T23:57:44Z</dcterms:created>
  <dc:creator>heather</dc:creator>
  <dc:description/>
  <dc:language>en-US</dc:language>
  <cp:lastModifiedBy>HBrown</cp:lastModifiedBy>
  <dcterms:modified xsi:type="dcterms:W3CDTF">2006-06-07T17:21:08Z</dcterms:modified>
  <cp:revision>2</cp:revision>
  <dc:subject/>
  <dc:title>Slide 1</dc:title>
</cp:coreProperties>
</file>